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823-A23F-4753-9C76-D6D1ADDD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8A1-8713-4CEC-A425-69C809DA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FCB-B73F-461D-B96B-93971977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001-926E-41A0-95F7-69BC1E35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E3C-C333-4911-AC5B-E270CA5D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2DD-C391-450D-AB43-B573564D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0481-987D-4E5A-8C0C-990F991A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063-ED11-415B-9BFB-1E9D5407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A73-9E03-4CEC-AAA0-14C60754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3EB-62BE-4533-88D0-CCDD3877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03A-D126-4EBB-AA03-CD16F4B1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D75-639D-49EC-A5C9-7F08393D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CFDF-229F-40F4-BAA8-CC99174A6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L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sha Chilcott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RMC Emergenc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lent CPR: Hard and F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atio is 30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t compressions are more important than rescue bre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s delivered at 100/minute (staying alive, staying alive, ah, ah, ah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ons 8-10/minute – slower than you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ythm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only one ques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ock, or not to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-Fib or pulseless V-Ta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 or Asysto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S AND CONTINUED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: KEEP DOING CP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delivering a shock, resume CPR for 2 minutes before checking rhythm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taneously check for pu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 CPR while defibrillator charges, if need to shock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ET Tube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access or IO access as soon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nephrine/Vasopressin Q3-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odarone after Epi/Vasopressin; Lidocaine also OK, but now out of favor and not in field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opres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d for V-Fib, V-Tach, PEA, Asysto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ONLY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Units IV/IO instead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 of Epineph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or responsive (talking) patients with known 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neph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ine drug for ALL pulseless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l of 1:10,000 solution -- bo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g in 500 ml of NaCl or D5W @ 1microgram/min, titrate to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odar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for V-Fib or pulseless V-T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:  300 mg IV/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: 150 mg IV/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use: 0.5 mg/min x 1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rop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atic bradycardia or SLOW P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, Asystole: 1mg IV/IO Q3-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ycardia: 0.5mg IV/IOQ3-5 min, P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dose &lt; 0.5mg can cause paradoxical bradycar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2 YO Caucasian Family Do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ming, per his usual at the local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eeling up to par, decides he should ge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kes up in I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stander C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surgeon swimming in same lane starts poor quality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ER nurses, having breakfast @ poolside shove surgeon out of way and start excellent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dics arrive, and deliver 2 shocks in field between continued CPR, establishing a line and intub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ER – CPR contin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been certified in ACLS in last 3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as certified before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one ever give bystander CPR or CPR in the fie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as last time you participated in a Code Blue that ha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od out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 Code 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rrival to ER, rhythm remains VF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 in ER and Amiodarone bo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thm converts to 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red to I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antable defibrillator pl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R and Code Blue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weeks later, back in th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years later, still swimming and seeing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324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 Opi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thinks that CPR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actually save any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initiate CPR as a bysta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talked to Ann Lockhart or Elise Lewis about their experience on the reservoir r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im Statistics for Code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of spontaneous circulation (ROSC) of about 40% - 6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al to hospital discharge of at most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(3 year) survival ~40% OF the 15% that are dis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ng-term survival after successful in hospital cardiac arrest resuscitation American Heart Journal - Volume 153, Issue 5 (May 20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come of adult cardiopulmonary resuscitations at a tertiary referral center including results of "limited" resuscitation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umot JA 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ch Intern 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23-JUL-2001; 161(14): 1751-8 (From NIH/NLM MEDLIN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8 YO Asian Male Homicide Det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es road bike total of 250 miles during week of 10/5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s for easy 3 mile training run w/ other officers 10/15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tches post run; reaching for the sky is the last thing he remembers until waking in the 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56280" y="1600200"/>
            <a:ext cx="302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While He was Asle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psed forward, striking head and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, unresponsive, pul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ion officers start EXCELLENT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FD on scene in less than 3 minutes, defibrillator pads placed, rhythm check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189160"/>
            <a:ext cx="82296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-Fib Ar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 w/ 120 Jo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EXCELLENT CP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ow do we know it was excellent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pulse, check rhythm – carotid pulse present, sinus rhy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Santa Rosa Memori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R trauma bay, patient becomes alert, speaks coherently, and complains of being very s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goes to cardiac catheter where he is diagnosed with severe 3 vesse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goes 3 Vessel CAB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 study demonstrates need for implantable defibril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riends take CPR and get their own cholesterol che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7:56:51Z</dcterms:created>
  <dc:creator>Ian-Peter Sherburne</dc:creator>
  <dc:description/>
  <dc:language>en-US</dc:language>
  <cp:lastModifiedBy>Ian-Peter Sherburne</cp:lastModifiedBy>
  <dcterms:modified xsi:type="dcterms:W3CDTF">2009-01-08T20:03:10Z</dcterms:modified>
  <cp:revision>5</cp:revision>
  <dc:subject/>
  <dc:title>ACLS Update</dc:title>
</cp:coreProperties>
</file>